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42A-A8D7-4809-B9A5-273601B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807-7352-4526-BBD1-6156A75D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A60-CDF0-4094-9C44-A1CCAAF3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2E3-0FC9-43C0-AFCC-2C175BD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315-110E-4EBD-BD12-D6E2EFA5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5700-EA60-4068-80AE-3ADF22C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D772-D4B9-48D3-AAF3-EACED75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A478-07EB-46E9-A310-8DFA8EC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0ED9-AC36-4A5F-AEB9-395D7746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F7E0-159E-4865-8D4C-7C50B83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9FD6-D802-42ED-9DF6-D414482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8BF-D33F-4AF7-BC26-128D3B40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1474-3FE0-4F50-ACE7-A863C42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0E6F-D4BA-4BA6-A185-034AC5A0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A76-0BAA-4882-9875-734BE4D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0F1-D4F8-421D-94AC-63F1C1B4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739-A4B6-46D2-9AB2-A146FFDF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499C-A264-4C58-AA9F-A3263DF0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8532-5A9F-46A1-A1D0-C35F104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F65C-224B-4171-948E-F864485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0609-BAF4-42F3-8A78-10AD4E2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05A5-1E28-40CF-9FA3-C27D3CA1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66D-82A6-475B-A4AA-96ACB92A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14A9-1610-4BE8-8858-9BC11865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09A8-A8E5-41C8-9F7F-03F10C4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E49D-C3E4-4856-B6FB-826E135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F041-82DE-44AD-8E28-C21F3E94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FFDA-6A63-48AD-8877-999E7E5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8702-2072-4935-ADF3-11EAF16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54F7-0327-4FDC-83A2-EB5CCA12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B27B-9CFD-40B5-9A94-61048BF6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0E10-D620-4753-BB6F-289E17E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3E56-C8F8-410F-A013-3D692BBF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0FA-A1E2-4B21-BA43-D9D2D7F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926D-771D-4980-9C1B-E0050BF8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0DCA-CFAE-4048-BE2F-41FBF7D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D426-4E1D-40C6-931D-FEF9DFA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F038A-AE5C-49C4-B265-BD2C116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CCD6-B428-44C0-AD02-505956A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7F81-AF64-410E-90A7-A37A21A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8A1A-72AD-446B-B3F5-A27FB03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7D14-B45D-4F00-B65D-607E9DE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2F21-0087-481A-8FB3-1CD75DE5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1F61-83C5-4DC4-B7E4-89B0648B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2C9-8354-4E52-90CF-31F9EF04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3AA4-0FDD-4408-8F5F-ED199CC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7C64-F7F1-453E-8992-8064D38B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6E8C-C082-4338-9BDE-D63DCD8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45CD-4B74-4EA3-9796-68C3D31F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C502-B63B-433E-AF9A-E5F0382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20D7-2397-4942-9DF5-FA75F7D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ACEF-E910-418A-8AD3-FA85794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7276-37FD-4B19-9688-19897366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C159-BF8D-4A5E-8A78-530031D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62B4-40AE-4FFD-BF95-A81A3154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417-C86D-4FA1-A139-E2929BFF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9996-FC6B-4FBD-B531-C4C39361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22C62-71BF-4B79-B532-AC10FC9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CCD7-2669-4C62-B716-64C9C35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160A-C862-468C-A551-60FE26B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A260-BBDF-469E-9699-6A7FC823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785A-6452-4A27-A5CB-B45938D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5599-8721-4F22-9EC9-197CE63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6D60-F4E6-417E-8BB4-56C1453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3E0C2-300A-4BDC-8383-754EF2C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0E8D-1125-4475-BD4A-18AE688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C49-3718-4E09-9291-7FBAD8E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D74E-F189-44B6-98CC-ABE7EAC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05D4-5BA4-4C0C-A9CB-370D5438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6EB4-77E3-458D-B151-816E989A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0C46-1540-495D-91D8-05EC7F84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2811-05DF-4F5C-A6A4-EF97885F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A5CF-1BC1-41C4-BCEC-487E4AB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191D-6464-4BC5-B72A-71E804D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9DCC9-5FE3-4832-9F74-270A5541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F8B98-09A9-4E25-8588-26328C9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5BBD4-9743-41D4-9997-2B94D17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45F-005E-4941-B9A2-E0AF121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4FC9-4B26-463A-9407-886E6C91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BA58-E646-4C8C-A4A5-8D7EF92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322E-A0CA-42C3-8403-46226E59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227D-CE34-4CE9-A3A7-354B60D4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D176-9AD3-48A4-AAC4-340D611E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462-F409-4AA2-BD61-0CCFCF3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moonlight master 2.png"/>
          <p:cNvPicPr/>
          <p:nvPr/>
        </p:nvPicPr>
        <p:blipFill>
          <a:blip r:embed="rId3"/>
          <a:srcRect l="2391" t="1098" r="1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C4D-76B9-46D7-8766-1ABD5A93F891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Moonlight title.png"/>
          <p:cNvPicPr/>
          <p:nvPr/>
        </p:nvPicPr>
        <p:blipFill>
          <a:blip r:embed="rId3"/>
          <a:srcRect l="6767" t="0" r="4152" b="41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54336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240" y="6511680"/>
            <a:ext cx="10666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183-78C2-4327-84D7-503E11F95E8C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moonlight section.png"/>
          <p:cNvPicPr/>
          <p:nvPr/>
        </p:nvPicPr>
        <p:blipFill>
          <a:blip r:embed="rId3"/>
          <a:srcRect l="6390" t="0" r="4960" b="27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1D5-EA8F-4030-B11C-F6B399B020B4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4A03-8A6D-4BD3-9D62-289AC4393DF6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AAF2-23DC-442E-94B6-0B4E7C67D329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8DD-217B-4388-9829-339A7BA27A1D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3F09-BFD4-40B6-ACA5-FCDCA0F7E8B0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506520" y="1749600"/>
            <a:ext cx="5675040" cy="2352600"/>
          </a:xfrm>
          <a:prstGeom prst="rect">
            <a:avLst/>
          </a:prstGeom>
          <a:ln w="0">
            <a:noFill/>
          </a:ln>
        </p:spPr>
      </p:pic>
      <p:pic>
        <p:nvPicPr>
          <p:cNvPr id="295" name="Subtitle 2" descr=""/>
          <p:cNvPicPr/>
          <p:nvPr/>
        </p:nvPicPr>
        <p:blipFill>
          <a:blip r:embed="rId2"/>
          <a:stretch/>
        </p:blipFill>
        <p:spPr>
          <a:xfrm>
            <a:off x="1365120" y="3657600"/>
            <a:ext cx="5273640" cy="2371680"/>
          </a:xfrm>
          <a:prstGeom prst="rect">
            <a:avLst/>
          </a:prstGeom>
          <a:ln w="0">
            <a:noFill/>
          </a:ln>
        </p:spPr>
      </p:pic>
      <p:cxnSp>
        <p:nvCxnSpPr>
          <p:cNvPr id="296" name="Straight Arrow Connector 4"/>
          <p:cNvCxnSpPr/>
          <p:nvPr/>
        </p:nvCxnSpPr>
        <p:spPr>
          <a:xfrm>
            <a:off x="3657600" y="4800600"/>
            <a:ext cx="457920" cy="21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97" name="Straight Arrow Connector 5"/>
          <p:cNvCxnSpPr/>
          <p:nvPr/>
        </p:nvCxnSpPr>
        <p:spPr>
          <a:xfrm>
            <a:off x="2971800" y="5257800"/>
            <a:ext cx="457920" cy="21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566640" y="44460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2" descr=""/>
          <p:cNvPicPr/>
          <p:nvPr/>
        </p:nvPicPr>
        <p:blipFill>
          <a:blip r:embed="rId2"/>
          <a:stretch/>
        </p:blipFill>
        <p:spPr>
          <a:xfrm>
            <a:off x="907920" y="1494000"/>
            <a:ext cx="2987640" cy="3870000"/>
          </a:xfrm>
          <a:prstGeom prst="rect">
            <a:avLst/>
          </a:prstGeom>
          <a:ln w="0">
            <a:noFill/>
          </a:ln>
        </p:spPr>
      </p:pic>
      <p:pic>
        <p:nvPicPr>
          <p:cNvPr id="339" name="Content Placeholder 3" descr=""/>
          <p:cNvPicPr/>
          <p:nvPr/>
        </p:nvPicPr>
        <p:blipFill>
          <a:blip r:embed="rId3"/>
          <a:stretch/>
        </p:blipFill>
        <p:spPr>
          <a:xfrm>
            <a:off x="3882960" y="2255760"/>
            <a:ext cx="43531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7785000" cy="1914480"/>
          </a:xfrm>
          <a:prstGeom prst="rect">
            <a:avLst/>
          </a:prstGeom>
          <a:ln w="0">
            <a:noFill/>
          </a:ln>
        </p:spPr>
      </p:pic>
      <p:pic>
        <p:nvPicPr>
          <p:cNvPr id="341" name="Text Placeholder 2" descr=""/>
          <p:cNvPicPr/>
          <p:nvPr/>
        </p:nvPicPr>
        <p:blipFill>
          <a:blip r:embed="rId2"/>
          <a:stretch/>
        </p:blipFill>
        <p:spPr>
          <a:xfrm>
            <a:off x="682560" y="3852720"/>
            <a:ext cx="77850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56664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43" name="Content Placeholder 2" descr=""/>
          <p:cNvPicPr/>
          <p:nvPr/>
        </p:nvPicPr>
        <p:blipFill>
          <a:blip r:embed="rId2"/>
          <a:stretch/>
        </p:blipFill>
        <p:spPr>
          <a:xfrm>
            <a:off x="603360" y="1798560"/>
            <a:ext cx="3084480" cy="387036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3" descr=""/>
          <p:cNvPicPr/>
          <p:nvPr/>
        </p:nvPicPr>
        <p:blipFill>
          <a:blip r:embed="rId3"/>
          <a:stretch/>
        </p:blipFill>
        <p:spPr>
          <a:xfrm>
            <a:off x="5022720" y="1968480"/>
            <a:ext cx="29876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231840" y="1000080"/>
            <a:ext cx="1377720" cy="2664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593424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Text Placeholder 3" descr=""/>
          <p:cNvPicPr/>
          <p:nvPr/>
        </p:nvPicPr>
        <p:blipFill>
          <a:blip r:embed="rId3"/>
          <a:stretch/>
        </p:blipFill>
        <p:spPr>
          <a:xfrm>
            <a:off x="3060720" y="5456160"/>
            <a:ext cx="4572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341280" y="603360"/>
            <a:ext cx="7894800" cy="1182600"/>
          </a:xfrm>
          <a:prstGeom prst="rect">
            <a:avLst/>
          </a:prstGeom>
          <a:ln w="0">
            <a:noFill/>
          </a:ln>
        </p:spPr>
      </p:pic>
      <p:pic>
        <p:nvPicPr>
          <p:cNvPr id="299" name="Content Placeholder 2" descr=""/>
          <p:cNvPicPr/>
          <p:nvPr/>
        </p:nvPicPr>
        <p:blipFill>
          <a:blip r:embed="rId2"/>
          <a:stretch/>
        </p:blipFill>
        <p:spPr>
          <a:xfrm>
            <a:off x="755640" y="1712880"/>
            <a:ext cx="3530520" cy="438948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2" descr=""/>
          <p:cNvPicPr/>
          <p:nvPr/>
        </p:nvPicPr>
        <p:blipFill>
          <a:blip r:embed="rId3"/>
          <a:stretch/>
        </p:blipFill>
        <p:spPr>
          <a:xfrm>
            <a:off x="4870440" y="1712880"/>
            <a:ext cx="3517920" cy="438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6132600" y="3276720"/>
                <a:ext cx="225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7238880" y="3276720"/>
                <a:ext cx="225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5830920" y="3733920"/>
                <a:ext cx="146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-6480" y="378000"/>
            <a:ext cx="7785360" cy="1908000"/>
          </a:xfrm>
          <a:prstGeom prst="rect">
            <a:avLst/>
          </a:prstGeom>
          <a:ln w="0">
            <a:noFill/>
          </a:ln>
        </p:spPr>
      </p:pic>
      <p:pic>
        <p:nvPicPr>
          <p:cNvPr id="305" name="Text Placeholder 2" descr=""/>
          <p:cNvPicPr/>
          <p:nvPr/>
        </p:nvPicPr>
        <p:blipFill>
          <a:blip r:embed="rId2"/>
          <a:stretch/>
        </p:blipFill>
        <p:spPr>
          <a:xfrm>
            <a:off x="1060560" y="4108320"/>
            <a:ext cx="7785000" cy="1030320"/>
          </a:xfrm>
          <a:prstGeom prst="rect">
            <a:avLst/>
          </a:prstGeom>
          <a:ln w="0">
            <a:noFill/>
          </a:ln>
        </p:spPr>
      </p:pic>
      <p:pic>
        <p:nvPicPr>
          <p:cNvPr id="306" name="Title 1" descr=""/>
          <p:cNvPicPr/>
          <p:nvPr/>
        </p:nvPicPr>
        <p:blipFill>
          <a:blip r:embed="rId3"/>
          <a:stretch/>
        </p:blipFill>
        <p:spPr>
          <a:xfrm>
            <a:off x="523800" y="2736720"/>
            <a:ext cx="7937640" cy="1914480"/>
          </a:xfrm>
          <a:prstGeom prst="rect">
            <a:avLst/>
          </a:prstGeom>
          <a:ln w="0">
            <a:noFill/>
          </a:ln>
        </p:spPr>
      </p:pic>
      <p:pic>
        <p:nvPicPr>
          <p:cNvPr id="307" name="Text Placeholder 2" descr=""/>
          <p:cNvPicPr/>
          <p:nvPr/>
        </p:nvPicPr>
        <p:blipFill>
          <a:blip r:embed="rId4"/>
          <a:stretch/>
        </p:blipFill>
        <p:spPr>
          <a:xfrm>
            <a:off x="1212840" y="1822320"/>
            <a:ext cx="7785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Curved Connector 14"/>
          <p:cNvCxnSpPr/>
          <p:nvPr/>
        </p:nvCxnSpPr>
        <p:spPr>
          <a:xfrm flipV="1" rot="10800000">
            <a:off x="4952160" y="5333760"/>
            <a:ext cx="1448640" cy="915120"/>
          </a:xfrm>
          <a:prstGeom prst="curvedConnector5">
            <a:avLst>
              <a:gd name="adj1" fmla="val 49987"/>
              <a:gd name="adj2" fmla="val 49980"/>
              <a:gd name="adj3" fmla="val 49987"/>
            </a:avLst>
          </a:prstGeom>
          <a:ln w="64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64620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2" descr=""/>
          <p:cNvPicPr/>
          <p:nvPr/>
        </p:nvPicPr>
        <p:blipFill>
          <a:blip r:embed="rId2"/>
          <a:stretch/>
        </p:blipFill>
        <p:spPr>
          <a:xfrm>
            <a:off x="530280" y="1231920"/>
            <a:ext cx="2981160" cy="1212840"/>
          </a:xfrm>
          <a:prstGeom prst="rect">
            <a:avLst/>
          </a:prstGeom>
          <a:ln w="0">
            <a:noFill/>
          </a:ln>
        </p:spPr>
      </p:pic>
      <p:pic>
        <p:nvPicPr>
          <p:cNvPr id="311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38240"/>
            <a:ext cx="4206600" cy="39020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3"/>
          <p:cNvGrpSpPr/>
          <p:nvPr/>
        </p:nvGrpSpPr>
        <p:grpSpPr>
          <a:xfrm>
            <a:off x="533520" y="3352680"/>
            <a:ext cx="5943600" cy="2362320"/>
            <a:chOff x="533520" y="3352680"/>
            <a:chExt cx="5943600" cy="2362320"/>
          </a:xfrm>
        </p:grpSpPr>
        <p:pic>
          <p:nvPicPr>
            <p:cNvPr id="313" name="Content Placeholder 2" descr=""/>
            <p:cNvPicPr/>
            <p:nvPr/>
          </p:nvPicPr>
          <p:blipFill>
            <a:blip r:embed="rId4"/>
            <a:stretch/>
          </p:blipFill>
          <p:spPr>
            <a:xfrm>
              <a:off x="533520" y="3352680"/>
              <a:ext cx="3058560" cy="2362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4" name="Curved Connector 6"/>
            <p:cNvCxnSpPr/>
            <p:nvPr/>
          </p:nvCxnSpPr>
          <p:spPr>
            <a:xfrm flipV="1">
              <a:off x="3583080" y="4056840"/>
              <a:ext cx="1752480" cy="300240"/>
            </a:xfrm>
            <a:prstGeom prst="curvedConnector5">
              <a:avLst>
                <a:gd name="adj1" fmla="val 49989"/>
                <a:gd name="adj2" fmla="val 49939"/>
                <a:gd name="adj3" fmla="val 49989"/>
              </a:avLst>
            </a:prstGeom>
            <a:ln w="648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315" name="Curved Connector 11"/>
            <p:cNvCxnSpPr/>
            <p:nvPr/>
          </p:nvCxnSpPr>
          <p:spPr>
            <a:xfrm flipV="1">
              <a:off x="3506400" y="4131360"/>
              <a:ext cx="2971080" cy="525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6480">
              <a:solidFill>
                <a:srgbClr val="ffff00"/>
              </a:solidFill>
              <a:miter/>
              <a:tailEnd len="med" type="arrow" w="med"/>
            </a:ln>
          </p:spPr>
        </p:cxnSp>
      </p:grpSp>
      <p:sp>
        <p:nvSpPr>
          <p:cNvPr id="316" name="TextBox 8"/>
          <p:cNvSpPr/>
          <p:nvPr/>
        </p:nvSpPr>
        <p:spPr>
          <a:xfrm>
            <a:off x="2209680" y="54864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Because the C/R Form is:</a:t>
            </a: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(x - h)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 + (y - k)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 = r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64620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2" descr=""/>
          <p:cNvPicPr/>
          <p:nvPr/>
        </p:nvPicPr>
        <p:blipFill>
          <a:blip r:embed="rId2"/>
          <a:stretch/>
        </p:blipFill>
        <p:spPr>
          <a:xfrm>
            <a:off x="530280" y="1231920"/>
            <a:ext cx="2981160" cy="220644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38240"/>
            <a:ext cx="42066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7785000" cy="1914480"/>
          </a:xfrm>
          <a:prstGeom prst="rect">
            <a:avLst/>
          </a:prstGeom>
          <a:ln w="0">
            <a:noFill/>
          </a:ln>
        </p:spPr>
      </p:pic>
      <p:pic>
        <p:nvPicPr>
          <p:cNvPr id="321" name="Text Placeholder 2" descr=""/>
          <p:cNvPicPr/>
          <p:nvPr/>
        </p:nvPicPr>
        <p:blipFill>
          <a:blip r:embed="rId2"/>
          <a:stretch/>
        </p:blipFill>
        <p:spPr>
          <a:xfrm>
            <a:off x="682560" y="3852720"/>
            <a:ext cx="7785000" cy="2401920"/>
          </a:xfrm>
          <a:prstGeom prst="rect">
            <a:avLst/>
          </a:prstGeom>
          <a:ln w="0">
            <a:noFill/>
          </a:ln>
        </p:spPr>
      </p:pic>
      <p:cxnSp>
        <p:nvCxnSpPr>
          <p:cNvPr id="322" name="Straight Arrow Connector 4"/>
          <p:cNvCxnSpPr/>
          <p:nvPr/>
        </p:nvCxnSpPr>
        <p:spPr>
          <a:xfrm flipV="1">
            <a:off x="4113720" y="4952520"/>
            <a:ext cx="229320" cy="6105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506520" y="1749600"/>
            <a:ext cx="5675040" cy="2352600"/>
          </a:xfrm>
          <a:prstGeom prst="rect">
            <a:avLst/>
          </a:prstGeom>
          <a:ln w="0">
            <a:noFill/>
          </a:ln>
        </p:spPr>
      </p:pic>
      <p:pic>
        <p:nvPicPr>
          <p:cNvPr id="324" name="Subtitle 2" descr=""/>
          <p:cNvPicPr/>
          <p:nvPr/>
        </p:nvPicPr>
        <p:blipFill>
          <a:blip r:embed="rId2"/>
          <a:stretch/>
        </p:blipFill>
        <p:spPr>
          <a:xfrm>
            <a:off x="1427040" y="3693960"/>
            <a:ext cx="4754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62080" y="371520"/>
            <a:ext cx="6261120" cy="1171440"/>
          </a:xfrm>
          <a:prstGeom prst="rect">
            <a:avLst/>
          </a:prstGeom>
          <a:ln w="0">
            <a:noFill/>
          </a:ln>
        </p:spPr>
      </p:pic>
      <p:pic>
        <p:nvPicPr>
          <p:cNvPr id="326" name="Content Placeholder 2" descr=""/>
          <p:cNvPicPr/>
          <p:nvPr/>
        </p:nvPicPr>
        <p:blipFill>
          <a:blip r:embed="rId2"/>
          <a:stretch/>
        </p:blipFill>
        <p:spPr>
          <a:xfrm>
            <a:off x="1968480" y="1968480"/>
            <a:ext cx="4975200" cy="38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4267080" y="480060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4724280" y="480060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5181480" y="4800600"/>
                <a:ext cx="29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4343400" y="52578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4800600" y="525780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5334120" y="5257800"/>
                <a:ext cx="38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719280" y="255600"/>
            <a:ext cx="6145200" cy="117648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2" descr=""/>
          <p:cNvPicPr/>
          <p:nvPr/>
        </p:nvPicPr>
        <p:blipFill>
          <a:blip r:embed="rId2"/>
          <a:stretch/>
        </p:blipFill>
        <p:spPr>
          <a:xfrm>
            <a:off x="530280" y="1536840"/>
            <a:ext cx="3004920" cy="410832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14480"/>
            <a:ext cx="4292640" cy="4572000"/>
          </a:xfrm>
          <a:prstGeom prst="rect">
            <a:avLst/>
          </a:prstGeom>
          <a:ln w="0">
            <a:noFill/>
          </a:ln>
        </p:spPr>
      </p:pic>
      <p:cxnSp>
        <p:nvCxnSpPr>
          <p:cNvPr id="336" name="Straight Arrow Connector 4"/>
          <p:cNvCxnSpPr/>
          <p:nvPr/>
        </p:nvCxnSpPr>
        <p:spPr>
          <a:xfrm flipV="1">
            <a:off x="6095520" y="4038120"/>
            <a:ext cx="686520" cy="61056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3:16:57Z</dcterms:created>
  <dc:creator>Doug Shook</dc:creator>
  <dc:description/>
  <dc:language>en-US</dc:language>
  <cp:lastModifiedBy>Doug Shook</cp:lastModifiedBy>
  <dcterms:modified xsi:type="dcterms:W3CDTF">2008-03-26T23:26:50Z</dcterms:modified>
  <cp:revision>1</cp:revision>
  <dc:subject/>
  <dc:title>Conic Sections  -Circles</dc:title>
</cp:coreProperties>
</file>